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FCA-4A01-4DE8-B331-B8D7691E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18B-8783-48CF-B2F8-ADBAA7C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F24-7CB2-48BA-B679-48DC0E59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CB5-A37F-4BA0-8265-8C86D2B4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9AF5-8070-4CDD-8A66-21276B73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8E83-3CBE-4C64-AADB-A31ADFAE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355C-1961-4EA1-B441-3C9BF8B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1668-5835-4EA7-8963-7AA5F054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B198-9F63-4176-B0AB-56847160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0D1A-5E03-4206-88A3-5F4B47B9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005F-6D13-457F-9057-92F1D075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EC4-8909-4C4F-B77F-46F7C083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DAAA-BA67-46EC-B6E6-C0915795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C524-6288-44F0-8110-3FB2D445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8527-933F-48D0-89E1-B2EDB8C5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5AFF-F3C8-4B8C-9305-4729D83D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7963-6F4B-433B-9404-419800D5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CE3-D8ED-44FA-8D13-CA5CB73F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A27-C8FE-4E9F-984E-5569F107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14A-48D7-4847-8528-C7A92A5A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1A5-1502-42CA-A135-744B7BDB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E81-11F8-4C24-A4B4-5F78E97D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D70-B4C2-49F1-BA98-53CEFD1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699-800D-4F9A-8F5B-9BB26572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2B60-855B-4697-A05D-CF7C652CAB8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35BA-CFF6-41AB-9AFE-07B19280D29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unitedstreaming.com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discoveryeducation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nited Streaming Vide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rianna Ango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en Snyd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www.unitedstreaming.com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www.discoveryeducation.com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artsell, T., &amp; Yuen, S. (2006). Video streaming in online learning.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AACE Journal, 14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1), 31-4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 Is I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scovery Education’s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is a digital video-based learning resource from Discovery Education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the largest and most current K-12 digital video/video segment library available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a standards-based video-on-demand application, which has shown to increase student achievemen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ducators have access to 50,000 content-specific segments from 5,000 full-length educational videos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ore than half the schools across the United States us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unitedstream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eachers can access high quality producers--including Discovery School, United Learning, Scholastic, Standards Deviants, and Weston Woo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ideos are organized by subject and grade leve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re is a curriculum standards search that allows teachers to find videos that correspond to each standard of a particular stat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ate-of-the-Art Professional Development sessions for online and onsite support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ncludes a teacher center to manage classroom instructi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eatures (continue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eachers can save videos, quizzes, assignments, etc. in their own personal “My Content” area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eacher’s guides and blackline masters/worksheets accompany video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ideos are available in Spanish and closed caption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cludes extensive clip art gallery and encyclopedia articl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eacher Cent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assignment builder allows teachers to assign online activities and web-based projects that are stored on th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serve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calendar allows teachers to connect the past to the present with video content of events that happened on a particular day, week, and/or mont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Discovery Atlas Interactive Map allows students and teachers to search for videos pertaining to countries they are study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Discovery Educator Network allows for collaboration with fellow Discovery Educato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eacher Center (continue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Lesson Plan Library has lesson plans integrating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videos into various subject area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Quiz Builder allows teachers to create their own quizzes or access pre-made quizz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Writing Prompt Builder allows teachers to create their own writing prompts or access pre-made writing promp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tegrating United Stream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cellent resource for grades K-12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ted Streaming provides 50 ways to integrat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nitedstreaming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to your curriculum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tegration ideas can be implemented with all aspects of your daily routine and curriculum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me examples: journaling, reading support, current events, graphic organizers, morning work, hands-on math, etc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o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ardware is neutral, no special software or hardware need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aches visual learn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ideo clips are segmented into 3-4 minute portions.  Each piece focuses on an important component of the topic being studied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aries instructional strateg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ractical and easy to use for all subjects and grade levels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xtensive library of videos, encyclopedia articles, and clip ar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ulfills mandates set by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No Child Left Behi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ew titles added regularly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st: Schools must purchase a subscription in order for teachers to us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 Families of home schooled students must purchase a subscription as well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line assignments are limited to what is available on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serve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uter and internet access are a necessity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aining is suggested for new use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21:47:59Z</dcterms:created>
  <dc:creator>jensny</dc:creator>
  <dc:description/>
  <dc:language>en-US</dc:language>
  <cp:lastModifiedBy>jensny</cp:lastModifiedBy>
  <dcterms:modified xsi:type="dcterms:W3CDTF">2008-03-30T21:34:50Z</dcterms:modified>
  <cp:revision>8</cp:revision>
  <dc:subject/>
  <dc:title>United Streaming Vide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